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9DD1-27C6-4115-A302-EC1FB5020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4721-5560-4100-990F-88441DD1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3127-AEEE-45C7-B671-87FA90B71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AEF0-0471-465B-8524-5FDE73D08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562B-072B-41B2-82FA-ACC704F2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EE85-06DE-4F22-A3F9-D92910C1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2A36-0535-472D-BF77-982ED357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52AD-30D8-4B7C-9E83-0F812792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0C64-0EB9-4C12-BE41-0C670E38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6697-6F2E-4188-A153-5BEF2E51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2FC5-7F8B-419C-8A75-686CCDE9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5B9C-5CC0-4996-B37D-FF463C69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3E18-F219-418A-9B2E-DEBA6E52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9A5D-AFEF-480C-AE8F-D5B84CE1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7582-8671-4A49-9A88-27A6DD78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1F3B-5F75-4B9F-A0DB-4ECDDC1F9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8137-4A26-4535-B072-0E0B3A913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A7D7-6E99-4A62-9CF8-3521E6D8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4078-F8B2-4C2A-AFCE-5AC9F5E4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CC5B-4881-4DAE-BC58-3494FA79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8067-14D0-48EA-8CAF-EC7A631F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E8AD-78D4-4F75-BFF7-4F5EEA7D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7143-A7D2-4F0B-992F-34B1F599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869A-C551-4BD6-8700-E2060722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1E73-29AB-4263-92F4-77139859C75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781B-92D1-4AF6-957D-A0273C7C533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Annotated Bibliography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ue Borglund, PhD, R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ristine E. Lynn College of Nursing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o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rectly cite or paraphrase interesting or meaningful quotes from the article you wish to rememb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usefulness of the quote should be evident from its cont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 sure to note the page number of the quote or paraphrase for later referenc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ider the article’s clarity, purpose, or effectiven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do you question about the thesis or main points? Or the argument supporting them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connections are there between your knowledge &amp; experience, and the article’s information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void yes/no questions – they limit thought &amp; dialogu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eating the Annotated Bib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rt with the citation written in APA sty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rper, B. A. (1978). Fundamental patterns of knowing in nursing.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Advances in Nursing Science, 1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), 12-23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y attention to the details of a bib citatio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pitaliz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unctu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of ital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nging ind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Anno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mmarize each article’s central thesis and respond critically to the major points supporting the thesi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otes – generally 3-4 quotes/article. Include page numbers with the quo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estions – generally 2-3 questions. You are not expected to answer them – just raise them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se the Anno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ttach a copy of your annotation to the article you are annotating. Add comments as you reflect on its content. Start an alphabetical file of your annotated articl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bmit the annotation as required by the professor for the course. Be sure to add a title page with the submissio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 example of an Anno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annotation was published in Meleis (1991). It has been shortened, but please note the lack of page numbers for the quotes included in the text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naldson, S. K., &amp; Crowley, D. (1978). The discipline of nursing.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Nursing Outlook, 26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2), 113-120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article poses a series of significant questions. It begins by noting the question of the nature of nursing, but addresses this through a subquestion: What are the recurrent themes in nursing inquiry? These could suggest  “boundaries” for systematic study of the discipline of nursing. There follows a long discussion of the nature of classification of disciplines. Nursing 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 cont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en as a “professional” discipline. It is noted as a discipline different from nursing science(“&gt;”) and nursing practice (“&gt;”). Finally, the structure of the discipline of nursing is considered, a generalization is offered (“nursing studies the wholeness or health of humans”), and some “major conceptualizations in nursing” are presented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article is poorly organized…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vertheless, this seminal work is challenging. It makes the point that nursing is a discipline and gives support to its focu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notated Bibliography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werpoint Bibliograph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Engle, M., Blumenthal, A., &amp; Cosgrave, T. (2002, November 20). </a:t>
            </a:r>
            <a:r>
              <a:rPr b="0" i="1" lang="en-US" sz="2200" spc="-1" strike="noStrike">
                <a:solidFill>
                  <a:srgbClr val="003366"/>
                </a:solidFill>
                <a:latin typeface="Arial"/>
              </a:rPr>
              <a:t>How to prepare an annotated bibliography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. Retrieved February 7, 2003, from Cornell University Library, Reference Department Web site: http://www.library.cornell.edu/okuref/research/skill28.htm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Meleis, A. L. (1991). </a:t>
            </a:r>
            <a:r>
              <a:rPr b="0" i="1" lang="en-US" sz="2200" spc="-1" strike="noStrike">
                <a:solidFill>
                  <a:srgbClr val="003366"/>
                </a:solidFill>
                <a:latin typeface="Arial"/>
              </a:rPr>
              <a:t>Theoretical nursing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(2</a:t>
            </a:r>
            <a:r>
              <a:rPr b="0" lang="en-US" sz="22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ed.). Philadelphia : Lippincott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Wilhoit, S. (2001). </a:t>
            </a:r>
            <a:r>
              <a:rPr b="0" i="1" lang="en-US" sz="2200" spc="-1" strike="noStrike">
                <a:solidFill>
                  <a:srgbClr val="003366"/>
                </a:solidFill>
                <a:latin typeface="Arial"/>
              </a:rPr>
              <a:t>A brief guide to writing from readings. 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Needham Heights</a:t>
            </a:r>
            <a:r>
              <a:rPr b="0" i="1" lang="en-US" sz="22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MA: Allyn &amp; Bacon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Williams, O. </a:t>
            </a:r>
            <a:r>
              <a:rPr b="0" i="1" lang="en-US" sz="2200" spc="-1" strike="noStrike">
                <a:solidFill>
                  <a:srgbClr val="003366"/>
                </a:solidFill>
                <a:latin typeface="Arial"/>
              </a:rPr>
              <a:t>Writing an annotated bibliography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. Retrieved February 7, 2003 from University of Minnesota, Crookston Library Web site: http://www.crk.umn.edu/library/links/annotate.htm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a Bibliography?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an Annotatio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Bibliography is a list of citations put together on a topic of interest. The APA format is typically used in creating the typed copy in nursing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Annotation is a commentary a reader makes after critically reading an information source. It can include a summary of the reading, the reader’s response to the reading, and/or questions/comments addressing the article’s clarity, purpose, or effectiven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an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notated Bibliography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Annotated Bibliography is a list of bibliographic citations that includes a descriptive and evaluative paragraph of each citatio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s overall purpose is to support your study of a particular subject by providing a collection of succinct article summaries that will negate the need for rereading of an artic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ere do I start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gin by critically reading the article. View the reading as an interactive process in which your interpretation of author’s words is influenced by your own knowledge and experienc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itical readers attempt to dialogue with the text by asking tough questions on the article’s purpose, audience, language and conten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estions to ask about an artic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2361960"/>
            <a:ext cx="8381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o is the author? His/her credentials?, bias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re is the article published? What type of journal is it? What is the audienc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do I know about the topic? Am I open to new idea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y was the article written? What is its purpose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the author’s thesis? The major supporting points or assertion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estions to ask about an artic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2361960"/>
            <a:ext cx="8381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d the author support his/her thesis/assertion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d the article achieve its purpos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as the article organize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re the supporting sources credibl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d the article change my viewpoint on the topic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as the article convincing? What new information or ideas do I accept or rejec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riting the Anno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strong annotation contain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summary of the artic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r response to the artic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list of interesting or meaningful quo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estions connecting the article and your knowledge and experienc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Summary Paragrap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gin by succinctly stating the article’s thesis and major point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/define key points and how they are connected or substantiat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the usefulness and the limitations of the artic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mit in length to 3-4 grammatically correct senten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Response Paragrap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2361960"/>
            <a:ext cx="8381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your reaction to the article as a who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the relevance, accuracy, and quality of the citation and its conclusion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cument your response to the author’s ideas, argument, writing style or any other notable aspect of the artic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18:44:52Z</dcterms:created>
  <dc:creator>VALUED CUSTOMER</dc:creator>
  <dc:description/>
  <dc:language>en-US</dc:language>
  <cp:lastModifiedBy> Ethan Allen</cp:lastModifiedBy>
  <dcterms:modified xsi:type="dcterms:W3CDTF">2003-12-31T15:35:51Z</dcterms:modified>
  <cp:revision>4</cp:revision>
  <dc:subject/>
  <dc:title>The Annotated Bibliography</dc:title>
</cp:coreProperties>
</file>